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F72-7654-4525-8E9C-AAD83AF6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C7B-75D6-4EE9-8AAD-F0ABD801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C17-0AB6-4ED6-BF78-D888C7BE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E2C-2B6E-4AE6-86AE-2A366093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F49-1F07-4D57-848D-2648F236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3C5-A257-43C5-9FB3-0214BC86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FBFB-E614-4E5D-A56A-7675CC54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825-BAC7-4240-BAE9-3C635BC3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4C0-C18B-4852-83CD-38B1B5F9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106-F032-4684-8249-92D663B4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84E-5450-4741-8929-FC56CBF5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41E-9275-4916-997E-19DC247C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0A12-7C70-4856-B944-2D8364E18C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040" y="339840"/>
            <a:ext cx="665172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Finančni instrumenti v obdobju 2014-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oljeZBesedilom 2"/>
          <p:cNvSpPr/>
          <p:nvPr/>
        </p:nvSpPr>
        <p:spPr>
          <a:xfrm>
            <a:off x="833400" y="682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odroč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oljeZBesedilom 3"/>
          <p:cNvSpPr/>
          <p:nvPr/>
        </p:nvSpPr>
        <p:spPr>
          <a:xfrm>
            <a:off x="950760" y="1563840"/>
            <a:ext cx="7391520" cy="41173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raziskav, tehnološkega razvoja in inovacij (TC 1 in 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ovečanje konkurenčnosti MSP, kmetijskega sektorja (za EKSRP) ter sektorja ribištva in akvakulture (za ESPR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TC 1, 3, 8, 9)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dpora prehodu na gospodarstvo z nizkimi emisijami ogljika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(TC 3 in 4)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ančni instrumenti za urbani in teritorialni razvoj: 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TC 4, 6,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oljeZBesedilom 2"/>
          <p:cNvSpPr/>
          <p:nvPr/>
        </p:nvSpPr>
        <p:spPr>
          <a:xfrm>
            <a:off x="833400" y="682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Do sedaj izvedene aktiv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oljeZBesedilom 3"/>
          <p:cNvSpPr/>
          <p:nvPr/>
        </p:nvSpPr>
        <p:spPr>
          <a:xfrm>
            <a:off x="950760" y="1563840"/>
            <a:ext cx="7937640" cy="42397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redstavitev rezultatov predhodne ocene na seji OzS  - Vipolže november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prememba uredbe EKP in opredelitev sistema izvajanj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določitev posredniškega telesa za izvajanje finančnih instrumentov: MGRT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sodelovanje ZMOS v okviru urbanega razvoj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sodelujoči ministrstvi (MOP in MZ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menovanje in vzpostavitev usmerjevalnega odbora – posvetovalni organ MG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ločitev o modelu upravljanja – en sklad skladov in en upravljavec SID banka (ostali javni skladi kot možni finančni posrednik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oljeZBesedilom 2"/>
          <p:cNvSpPr/>
          <p:nvPr/>
        </p:nvSpPr>
        <p:spPr>
          <a:xfrm>
            <a:off x="833400" y="682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Akcijski nač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768240" y="1609560"/>
          <a:ext cx="7031160" cy="4808880"/>
        </p:xfrm>
        <a:graphic>
          <a:graphicData uri="http://schemas.openxmlformats.org/drawingml/2006/table">
            <a:tbl>
              <a:tblPr/>
              <a:tblGrid>
                <a:gridCol w="827280"/>
                <a:gridCol w="3378240"/>
                <a:gridCol w="1757160"/>
                <a:gridCol w="1068480"/>
              </a:tblGrid>
              <a:tr h="487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lo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sil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7636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znanitev usmerjevalnega odbora s predlogom Ključnih elementov F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872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rditev Ključnih elementov na V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636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bor upravljavca sklada skladov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 in sodelujoči ministrst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7636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končne vloge za odločitev o podpori in posredovanje na 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2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ločitev o podp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8872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lenitev finančnega sporaz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/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636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htevka za izplač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/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7636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bira finančnih posrednik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ravljavec sklada sklad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/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636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četek dodeljevanja sredstev končnim prejemnik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čni posred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oljeZBesedilom 2"/>
          <p:cNvSpPr/>
          <p:nvPr/>
        </p:nvSpPr>
        <p:spPr>
          <a:xfrm>
            <a:off x="833400" y="682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Sredstva za F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603360" y="1709640"/>
          <a:ext cx="8010360" cy="4124520"/>
        </p:xfrm>
        <a:graphic>
          <a:graphicData uri="http://schemas.openxmlformats.org/drawingml/2006/table">
            <a:tbl>
              <a:tblPr/>
              <a:tblGrid>
                <a:gridCol w="887400"/>
                <a:gridCol w="1336680"/>
                <a:gridCol w="1177920"/>
                <a:gridCol w="1171440"/>
                <a:gridCol w="1085760"/>
                <a:gridCol w="1177920"/>
                <a:gridCol w="1173240"/>
              </a:tblGrid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dnostna 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U del - VZH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U del - ZAH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kupaj [EU del] (Veljavni OP EK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 (EU del) – VZHOD pred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 (EU del) – ZAH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d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kupaj FI (EU del) -pred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7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N 1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,155,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844,7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,999,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8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N 3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,462,6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584,7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5,047,4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N 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6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N 6.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6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s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617,8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,429,5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047,4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9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,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3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Simona Hočevar</cp:lastModifiedBy>
  <cp:lastPrinted>2015-03-24T12:44:18Z</cp:lastPrinted>
  <dcterms:modified xsi:type="dcterms:W3CDTF">2017-06-08T15:29:06Z</dcterms:modified>
  <cp:revision>42</cp:revision>
  <dc:subject/>
  <dc:title>PowerPoint Presentation</dc:title>
</cp:coreProperties>
</file>