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34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F364-8EF2-406F-81FD-17E267538A8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33D4-B982-40BE-A35A-D67512C3C0D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7EC8-2056-4252-9BAC-009183CEF8B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D99-F6A3-43B4-8CC8-A78E058A365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488-C51B-42C3-AA26-A9AD92F5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862-BE93-44FB-8AF8-ADE7E0C9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FBA-A926-4923-B4D7-4A12EA22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F12-0702-477C-B939-9FB9687D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A8D5-B0E0-4A3B-BD41-71B3AA0E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8EC-A9F5-4CE2-B7D8-151AF04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C22-BD6F-4A30-BD36-0985C29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C6D-3766-448A-B325-E6A00B0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D95-2934-43F3-A358-673EDE21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5E19-A70D-4FD0-BF1C-81922649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D69-E380-4713-816F-2D164AE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585-58C8-4099-BE60-7321453E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39D5-435D-47A0-A960-16AC75F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7782-DAFC-4C02-A18F-52CF6E3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9EE-4C5E-4D6B-BC3D-C6F9048B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5A2F-7D53-4468-828B-ACEDFD2F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65CA-354D-4EFB-B39E-53BEB9F4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27-44B6-486B-BFAB-E5F4D38C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9DE-F2EA-49EC-B013-DED925C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045-1DA3-42E1-B093-45258DC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77F-0339-41BD-BCD1-6362AF7B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83F-3F55-4BF5-8757-E311136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29F-2066-42C9-BF51-1736224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64C-5A2C-418C-9191-E931E75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D6FC-0B1D-454B-B45F-F55A2EC855D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375B-F787-463F-AFA0-3BAC9640FE25}" type="slidenum">
              <a:rPr b="0" lang="sl-S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6" descr="Copy of BV_Certification_ISO_9001.gif"/>
          <p:cNvPicPr/>
          <p:nvPr/>
        </p:nvPicPr>
        <p:blipFill>
          <a:blip r:embed="rId2"/>
          <a:stretch/>
        </p:blipFill>
        <p:spPr>
          <a:xfrm>
            <a:off x="0" y="6173640"/>
            <a:ext cx="13320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35040" y="4365360"/>
            <a:ext cx="636912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dr. Barbara Brečko UL F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Matevž Premlč MK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lika 4" descr="Logo_10let_slogan.png"/>
          <p:cNvPicPr/>
          <p:nvPr/>
        </p:nvPicPr>
        <p:blipFill>
          <a:blip r:embed="rId1"/>
          <a:stretch/>
        </p:blipFill>
        <p:spPr>
          <a:xfrm>
            <a:off x="2843280" y="765000"/>
            <a:ext cx="3752640" cy="924120"/>
          </a:xfrm>
          <a:prstGeom prst="rect">
            <a:avLst/>
          </a:prstGeom>
          <a:ln w="0">
            <a:noFill/>
          </a:ln>
        </p:spPr>
      </p:pic>
      <p:sp>
        <p:nvSpPr>
          <p:cNvPr id="92" name="Podnaslov 2"/>
          <p:cNvSpPr/>
          <p:nvPr/>
        </p:nvSpPr>
        <p:spPr>
          <a:xfrm>
            <a:off x="1982880" y="5589720"/>
            <a:ext cx="54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cala"/>
              </a:rPr>
              <a:t>Bled, 13.06.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Končno vrednotenje komunikacijskega načrta informiranja in obveščanja javnosti o izvajanju operativnih programov v programskem obdobju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ravokotnik 4"/>
          <p:cNvSpPr/>
          <p:nvPr/>
        </p:nvSpPr>
        <p:spPr>
          <a:xfrm>
            <a:off x="2268360" y="1916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cala"/>
              </a:rPr>
              <a:t>MK projekt</a:t>
            </a:r>
            <a:r>
              <a:rPr b="1" lang="sl-SI" sz="1800" spc="-1" strike="noStrike">
                <a:solidFill>
                  <a:srgbClr val="000000"/>
                </a:solidFill>
                <a:latin typeface="Scala"/>
              </a:rPr>
              <a:t>, d.o.o. consult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Rogaška cesta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3240 Šmarje pri Jelš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BUSSINES UN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Kotnikova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1000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: 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+386 (0)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43 05 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Fa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: 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+386 (0)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43 05 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Mail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: info@mk-projekt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Website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</a:rPr>
              <a:t>: www.mk-projekt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Slika 4" descr="Logo_10let_slogan.png"/>
          <p:cNvPicPr/>
          <p:nvPr/>
        </p:nvPicPr>
        <p:blipFill>
          <a:blip r:embed="rId1"/>
          <a:stretch/>
        </p:blipFill>
        <p:spPr>
          <a:xfrm>
            <a:off x="3276720" y="1052640"/>
            <a:ext cx="273528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cala"/>
              </a:rPr>
              <a:t>En komunikacijski načrt z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vni program razvoja okoljske in prometne infrastrukture za obdobje 2007–20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vni program krepitve regionalnih razvojnih potencialov za obdobje 2007–2013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vni program razvoja človeških virov za obdobje 2007–2013</a:t>
            </a:r>
            <a:r>
              <a:rPr b="0" lang="en-US" sz="1900" spc="-1" strike="noStrike">
                <a:solidFill>
                  <a:srgbClr val="000000"/>
                </a:solidFill>
                <a:latin typeface="Scal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cala"/>
              </a:rPr>
              <a:t>Osrednji namen komunikacijskega načrta -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formiranje in osveščanje o vlogi EU pri sofinanciranju operacij iz KS, ESRR in ESS, njihovem delovanju, učinkih, o možnostih, pogojih in načinu pridobivanja sredste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ala"/>
              </a:rPr>
              <a:t>Predmet vrednote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cala"/>
              </a:rPr>
              <a:t>Izvedba komunikacijskega načrta informiranja in obveščanja javnosti o izvajanju operativnih programov v programskem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ala"/>
              </a:rPr>
              <a:t>Namen vrednote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cala"/>
              </a:rPr>
              <a:t>Podati informacije o uspešnosti, učinkovitosti in vplivu izvedenih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cala"/>
              </a:rPr>
              <a:t>Vsebinska izhodiš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Metode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ala"/>
              </a:rPr>
              <a:t>Pregled obstoječih gradiv in dokumen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ala"/>
              </a:rPr>
              <a:t>Spletna ank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cala"/>
              </a:rPr>
              <a:t>Izvedba od 7.11.2016 do 7.12.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cala"/>
              </a:rPr>
              <a:t>Vabilo k anketi diseminirano preko različnih kana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cala"/>
              </a:rPr>
              <a:t>Izpolnjenih 619 an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Scala"/>
              </a:rPr>
              <a:t>Omejitve anketi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sovna oddaljenost predmeta vrednote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orec respondentov (samoizbira, ni naključnega vzorčenja, baza naslovniko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vmesnem času prenovljena splet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reseganje omeji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rabljeni dodatni viri podatkov (Eurobarometer, Epis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ezava na staro spletno stran v ank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cala"/>
              </a:rPr>
              <a:t>Uspešnost izvedenih 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Uspešnost merjena s stopnjo doseganja skupnih in posamičnih kazalni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1116000" y="2048040"/>
          <a:ext cx="641520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48040"/>
                    <a:ext cx="641520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Učinkovitost izvedenih 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Merjena s spletno anketo in sekundarnimi analizami podatkov Eurobarometra, Eurostata in Episce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Seznanjenost s projekti, ki jih sofinancira EU nad povprečjem EU28, vendar 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Dobra seznanjenost s posameznimi skl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Prostor za izboljšave glede obveščanja, informiranja, razumljivosti vse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1476360" y="3429000"/>
          <a:ext cx="591804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429000"/>
                    <a:ext cx="59180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00000"/>
                </a:solidFill>
                <a:latin typeface="Scala"/>
              </a:rPr>
              <a:t>Vpliv izvedenih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Merjenje percepcije učinka evropske kohezijske politike </a:t>
            </a: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( kazalnik % vprašanih, ki pozitivno ocenjujejo prispevek evropske kohezijske polit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Razhajanja v percepciji pozitivnega učinka med raziskavo Eurobarometer in Episcenter – za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Razlog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Scala"/>
              </a:rPr>
              <a:t>Različna vpraš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Scala"/>
              </a:rPr>
              <a:t>Različne merske lest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Scala"/>
              </a:rPr>
              <a:t>Sporna interpretacija podatk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Scala"/>
              </a:rPr>
              <a:t>Eurobarometer – 82  % vprašanih pozitivno ocenjuje vpliv sofinanciranja Episcenter – 46 % ocenjuje velik oziroma zelo velik pozitivni učin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ca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2050920" y="4365720"/>
          <a:ext cx="57024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365720"/>
                    <a:ext cx="57024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00000"/>
                </a:solidFill>
                <a:latin typeface="Scala"/>
              </a:rPr>
              <a:t>Finančna realiz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Zelo racionalna poraba finačnih sredstev – skupno porabljenih 45,6 % predvidenih sredste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ca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1403280" y="2205000"/>
          <a:ext cx="5816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05000"/>
                    <a:ext cx="5816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00000"/>
                </a:solidFill>
                <a:latin typeface="Scala"/>
              </a:rPr>
              <a:t>Ključne ugotovitve in priporo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Scala"/>
              </a:rPr>
              <a:t>Ključne ugotov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Zelo uspešno izvajanje komunikacijsk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Izvedene vse načrtovane aktivnosti, razen izobraže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Večina kazalnikov presežen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oraba sredstev nižja od predvid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ca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Scala"/>
              </a:rPr>
              <a:t>Priporoč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Del sredstev nameniti komuniciranju z med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ovečanje ciljnih vrednosti nekaterih kazalnik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Metodološki pregled merjenega kazalnika – pozitivna percep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Okrepitev aktivnosti v primarnih medijih (TV, lokalni časopi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Izvedba kratkih ad-hoc raziskav za sprotno mer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Uporaba več kazalnikov in različnih virov podatkov za merjenje odnosa do kohezijske poli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Okrepiti informiranje o vsebini, načinu,  pogojih, postopkih in priložnostih črpanja evropskih sreds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Okrepiti aktivnost odnosi z javnostmi, izobraževanje novinarj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ca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8:12:43Z</dcterms:created>
  <dc:creator>Nataša Naumović</dc:creator>
  <dc:description/>
  <dc:language>en-US</dc:language>
  <cp:lastModifiedBy>Barbara Neza Brecko</cp:lastModifiedBy>
  <dcterms:modified xsi:type="dcterms:W3CDTF">2017-06-09T09:48:41Z</dcterms:modified>
  <cp:revision>716</cp:revision>
  <dc:subject/>
  <dc:title>Lorem Ipsum</dc:title>
</cp:coreProperties>
</file>