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C02-C1DF-4127-84E2-08AF132D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81C-7351-4DF7-967F-91388F9A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631-61D3-4CAF-8A00-D69C8734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66E-FB33-441F-973B-1619D1FD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A3CD-1590-4AA9-9A04-49647420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D1B9-3735-480F-9DD5-D2C5E3DA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2C93-6787-4A3C-9F7A-DC637817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E5FD-05D8-4EC8-857E-D451A59C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AB96-08A6-40C2-A3A5-9A9A181F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176E-DDC0-4800-88E8-0B1EB190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7757-5C76-4C54-9F9D-33E216F1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989-C1B5-4101-9E39-8290F80F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E532-C25D-481C-8799-D80378DA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793E-98E1-48E6-A381-12934492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F220-5514-4B06-B6E1-45D00E2F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1639-1B17-4247-BF9C-B4C872C5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820B-2526-46CB-819E-DFD377AA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A939E-647E-4276-8419-FF52AEB6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33FD5-7ED9-4565-AB46-C0ABC4D8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19B6E-D809-40A1-9A91-35C5AECD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F8FF2-7AD7-4D49-A61C-920F0992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D22E-686B-47B2-8329-2D6A1C0F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9BA7-EFC0-417D-8412-F1BC18C5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466FE-EFB4-4B5A-9DB6-2F2AA83A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39D4-C9A3-4007-9C5C-E6C58860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573A-17C1-43C7-992E-ECB51BFB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7F5A7-9A6A-457E-A38D-C8D405AC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5026-52A2-4354-BF1D-AF012063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4AFB-241C-4594-BE81-F719DB8F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5598-80D9-45B2-894A-4973E8C8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FC733-49A5-446C-A8C1-D95D851F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E0913-DD79-4CEB-A1E4-0E569912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4948-D838-4A82-8256-91E5AB11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3FF-6889-4335-8537-4E31A5F2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8965-BD79-45B0-9A78-EAF40562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931D2-19E0-46C7-95F3-99B5E25C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63C22-2FAC-4043-8284-75CE5FE5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1B7EF-C806-4CD4-8E11-76D28BBE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F8564-0620-4494-ABB2-58BA5C5A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437F6-3459-476C-BF5B-E6391D16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FAF7B-678C-4C38-9EFE-F743C149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43856-9DF9-4129-8848-415FD319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D42A0-E9EA-4440-9E18-D86E388A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BF5-7C65-4E00-944B-9A37CC88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02D-A36D-407A-813A-F4E27BA0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C8A-19D5-414B-9F88-D44DF3C1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368-10F3-436C-A478-BFD0E3F3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BA6-E8BE-4750-A726-F1DEB1F9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8BDD-56C7-48B4-9290-BA7AF86CF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1109-3749-449E-8BE8-C10C4E7785F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1773-A3ED-498A-9720-263B48CD7CC9}" type="slidenum">
              <a:rPr b="0" lang="sl-SI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33FE-5125-4072-BBD1-40AC5F93276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5627520"/>
            <a:ext cx="91440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lovenska strategija pametne specializacije - S4</a:t>
            </a:r>
            <a:br>
              <a:rPr sz="36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imona Hočevar, SVRK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2" descr="naslovna slika 1"/>
          <p:cNvPicPr/>
          <p:nvPr/>
        </p:nvPicPr>
        <p:blipFill>
          <a:blip r:embed="rId1"/>
          <a:stretch/>
        </p:blipFill>
        <p:spPr>
          <a:xfrm>
            <a:off x="1316160" y="0"/>
            <a:ext cx="68436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191880" y="609480"/>
            <a:ext cx="4011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00"/>
                </a:solidFill>
                <a:latin typeface="Calibri"/>
              </a:rPr>
              <a:t>raziskave, razvoj &amp; inovacij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55120" y="2075040"/>
            <a:ext cx="709956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Ograda besedila 1"/>
          <p:cNvSpPr/>
          <p:nvPr/>
        </p:nvSpPr>
        <p:spPr>
          <a:xfrm>
            <a:off x="0" y="-122400"/>
            <a:ext cx="44928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0000"/>
                </a:solidFill>
                <a:latin typeface="Calibri"/>
                <a:ea typeface="Arial"/>
              </a:rPr>
              <a:t>SVEŽENJ UKREPO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Ograda vsebine 4" descr=""/>
          <p:cNvPicPr/>
          <p:nvPr/>
        </p:nvPicPr>
        <p:blipFill>
          <a:blip r:embed="rId1"/>
          <a:stretch/>
        </p:blipFill>
        <p:spPr>
          <a:xfrm>
            <a:off x="-12600" y="1268280"/>
            <a:ext cx="9004320" cy="5497560"/>
          </a:xfrm>
          <a:prstGeom prst="rect">
            <a:avLst/>
          </a:prstGeom>
          <a:ln w="0">
            <a:noFill/>
          </a:ln>
        </p:spPr>
      </p:pic>
      <p:sp>
        <p:nvSpPr>
          <p:cNvPr id="695" name="PoljeZBesedilom 5"/>
          <p:cNvSpPr/>
          <p:nvPr/>
        </p:nvSpPr>
        <p:spPr>
          <a:xfrm>
            <a:off x="1757520" y="5389560"/>
            <a:ext cx="4333680" cy="398880"/>
          </a:xfrm>
          <a:prstGeom prst="rect">
            <a:avLst/>
          </a:prstGeom>
          <a:solidFill>
            <a:srgbClr val="d9d9d9"/>
          </a:solidFill>
          <a:ln cap="rnd"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Inovativna javna naročila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Naslov 1"/>
          <p:cNvSpPr/>
          <p:nvPr/>
        </p:nvSpPr>
        <p:spPr>
          <a:xfrm>
            <a:off x="5823000" y="1595520"/>
            <a:ext cx="213516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Calibri"/>
                <a:ea typeface="Arial"/>
              </a:rPr>
              <a:t>RTDI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  <a:ea typeface="Arial"/>
              </a:rPr>
              <a:t>:   </a:t>
            </a:r>
            <a:r>
              <a:rPr b="0" lang="sl-SI" sz="2700" spc="-1" strike="noStrike">
                <a:solidFill>
                  <a:srgbClr val="000000"/>
                </a:solidFill>
                <a:latin typeface="Calibri"/>
                <a:ea typeface="Arial"/>
              </a:rPr>
              <a:t>(I)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l-SI" sz="2700" spc="-1" strike="noStrike">
                <a:solidFill>
                  <a:srgbClr val="000000"/>
                </a:solidFill>
                <a:latin typeface="Calibri"/>
                <a:ea typeface="Arial"/>
              </a:rPr>
              <a:t>od razvoja do trg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številke diapoz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3E53-C6DA-4FB2-9723-0A7F88BCC863}" type="slidenum"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oljeZBesedilom 6"/>
          <p:cNvSpPr/>
          <p:nvPr/>
        </p:nvSpPr>
        <p:spPr>
          <a:xfrm>
            <a:off x="1644480" y="193500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Bazična zna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oljeZBesedilom 7"/>
          <p:cNvSpPr/>
          <p:nvPr/>
        </p:nvSpPr>
        <p:spPr>
          <a:xfrm>
            <a:off x="3924360" y="3105000"/>
            <a:ext cx="53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Izboljšanje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ednarodne konkurenčnosti in odličnosti raziskav 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za sodelovanje v verigah vred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oljeZBesedilom 9"/>
          <p:cNvSpPr/>
          <p:nvPr/>
        </p:nvSpPr>
        <p:spPr>
          <a:xfrm>
            <a:off x="771480" y="360360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OTRDITEV KONCEP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oljeZBesedilom 10"/>
          <p:cNvSpPr/>
          <p:nvPr/>
        </p:nvSpPr>
        <p:spPr>
          <a:xfrm>
            <a:off x="2246400" y="489744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ROTOT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oljeZBesedilom 11"/>
          <p:cNvSpPr/>
          <p:nvPr/>
        </p:nvSpPr>
        <p:spPr>
          <a:xfrm>
            <a:off x="4745160" y="6119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T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oljeZBesedilom 13"/>
          <p:cNvSpPr/>
          <p:nvPr/>
        </p:nvSpPr>
        <p:spPr>
          <a:xfrm>
            <a:off x="5189400" y="3745080"/>
            <a:ext cx="395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odpora RRI proceso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manjši investicijski projek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ME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nstr. Plus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rojek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večji RRI projek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oljeZBesedilom 16"/>
          <p:cNvSpPr/>
          <p:nvPr/>
        </p:nvSpPr>
        <p:spPr>
          <a:xfrm>
            <a:off x="7796160" y="540216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odpora naložbam - povra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uščica dol 4"/>
          <p:cNvSpPr/>
          <p:nvPr/>
        </p:nvSpPr>
        <p:spPr>
          <a:xfrm>
            <a:off x="3098880" y="2692440"/>
            <a:ext cx="243036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263160" bIns="263160" anchor="ctr">
            <a:noAutofit/>
          </a:bodyPr>
          <a:p>
            <a:pPr algn="ctr">
              <a:lnSpc>
                <a:spcPct val="90000"/>
              </a:lnSpc>
              <a:spcAft>
                <a:spcPts val="1613"/>
              </a:spcAft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oljeZBesedilom 16"/>
          <p:cNvSpPr/>
          <p:nvPr/>
        </p:nvSpPr>
        <p:spPr>
          <a:xfrm>
            <a:off x="2662200" y="1419120"/>
            <a:ext cx="2997360" cy="703800"/>
          </a:xfrm>
          <a:prstGeom prst="rect">
            <a:avLst/>
          </a:prstGeom>
          <a:solidFill>
            <a:srgbClr val="d9d9d9"/>
          </a:solidFill>
          <a:ln cap="rnd"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Boljša izraba in razvoj raziskovalne infrastruk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oljeZBesedilom 17"/>
          <p:cNvSpPr/>
          <p:nvPr/>
        </p:nvSpPr>
        <p:spPr>
          <a:xfrm>
            <a:off x="3924360" y="490680"/>
            <a:ext cx="2879640" cy="916920"/>
          </a:xfrm>
          <a:prstGeom prst="rect">
            <a:avLst/>
          </a:prstGeom>
          <a:solidFill>
            <a:srgbClr val="d9d9d9"/>
          </a:solidFill>
          <a:ln cap="rnd"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Komplementarnost z Obzorjem 2020 (teaming, ERC, twin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oljeZBesedilom 18"/>
          <p:cNvSpPr/>
          <p:nvPr/>
        </p:nvSpPr>
        <p:spPr>
          <a:xfrm>
            <a:off x="2662200" y="6481800"/>
            <a:ext cx="6481800" cy="703800"/>
          </a:xfrm>
          <a:prstGeom prst="rect">
            <a:avLst/>
          </a:prstGeom>
          <a:solidFill>
            <a:srgbClr val="d9d9d9"/>
          </a:solidFill>
          <a:ln cap="rnd"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Internacionaliza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154080" y="1149120"/>
            <a:ext cx="809928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raziskovalni potencial raziskovalcev in mednarodna mobilnost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= raziskovalci na začetku kariere 2.0; pritegniti raziskovalce (domače in tuje) iz tuji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znanje in kompetence zaposlenih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sl-SI" sz="1900" spc="-1" strike="noStrike" u="sng">
                <a:solidFill>
                  <a:srgbClr val="000000"/>
                </a:solidFill>
                <a:uFillTx/>
                <a:latin typeface="Calibri"/>
              </a:rPr>
              <a:t>Kompetenčni centri za razvoj kadrov 2.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mlada in ustvarjalna Slovenija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= odkrivanje, spodbujanje in razvoj potenciala mladih in njihovih sposobnosti, spodbujanje podjetnosti in ustvarjalnosti mladih </a:t>
            </a:r>
            <a:r>
              <a:rPr b="0" lang="sl-SI" sz="1900" spc="-1" strike="noStrike" u="sng">
                <a:solidFill>
                  <a:srgbClr val="000000"/>
                </a:solidFill>
                <a:uFillTx/>
                <a:latin typeface="Calibri"/>
              </a:rPr>
              <a:t>po celi vertikali izobraževalnega proces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 u="sng">
                <a:solidFill>
                  <a:srgbClr val="000000"/>
                </a:solidFill>
                <a:uFillTx/>
                <a:latin typeface="Calibri"/>
              </a:rPr>
              <a:t>Karierna platforma za zaposle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Ograda besedila 1"/>
          <p:cNvSpPr/>
          <p:nvPr/>
        </p:nvSpPr>
        <p:spPr>
          <a:xfrm>
            <a:off x="0" y="-122400"/>
            <a:ext cx="44928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0000"/>
                </a:solidFill>
                <a:latin typeface="Calibri"/>
                <a:ea typeface="Arial"/>
              </a:rPr>
              <a:t>SVEŽENJ UKREPO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besedila 1"/>
          <p:cNvSpPr/>
          <p:nvPr/>
        </p:nvSpPr>
        <p:spPr>
          <a:xfrm>
            <a:off x="192240" y="573120"/>
            <a:ext cx="40114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00"/>
                </a:solidFill>
                <a:latin typeface="Calibri"/>
                <a:ea typeface="Arial"/>
              </a:rPr>
              <a:t>človeški viri – kadr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Ograda besedila 1"/>
          <p:cNvSpPr/>
          <p:nvPr/>
        </p:nvSpPr>
        <p:spPr>
          <a:xfrm>
            <a:off x="363600" y="3133800"/>
            <a:ext cx="4013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00"/>
                </a:solidFill>
                <a:latin typeface="Calibri"/>
                <a:ea typeface="Arial"/>
              </a:rPr>
              <a:t>podjetništv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2240" y="3624120"/>
            <a:ext cx="458928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ovonastala podjetja in prenos znanj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spodbujanje rasti in razvoja MS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socialne inovacij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nternacionalizacij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nakokraki trikotnik 7"/>
          <p:cNvSpPr/>
          <p:nvPr/>
        </p:nvSpPr>
        <p:spPr>
          <a:xfrm>
            <a:off x="3719520" y="2963880"/>
            <a:ext cx="5326200" cy="385776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oljeZBesedilom 8"/>
          <p:cNvSpPr/>
          <p:nvPr/>
        </p:nvSpPr>
        <p:spPr>
          <a:xfrm>
            <a:off x="4203720" y="6005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I. Podjetniško-inovacijski eko-sistem: HORIZONTALEN PRIS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oljeZBesedilom 9"/>
          <p:cNvSpPr/>
          <p:nvPr/>
        </p:nvSpPr>
        <p:spPr>
          <a:xfrm>
            <a:off x="5491080" y="4127400"/>
            <a:ext cx="19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II. Verige in mreže vred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OSREDOTOČAN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Dvosmerna navpična puščica 10"/>
          <p:cNvSpPr/>
          <p:nvPr/>
        </p:nvSpPr>
        <p:spPr>
          <a:xfrm>
            <a:off x="5248440" y="5049720"/>
            <a:ext cx="484200" cy="955800"/>
          </a:xfrm>
          <a:prstGeom prst="upDownArrow">
            <a:avLst>
              <a:gd name="adj1" fmla="val 50000"/>
              <a:gd name="adj2" fmla="val 50007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Dvosmerna navpična puščica 11"/>
          <p:cNvSpPr/>
          <p:nvPr/>
        </p:nvSpPr>
        <p:spPr>
          <a:xfrm>
            <a:off x="5846760" y="5049720"/>
            <a:ext cx="484200" cy="955800"/>
          </a:xfrm>
          <a:prstGeom prst="upDownArrow">
            <a:avLst>
              <a:gd name="adj1" fmla="val 50000"/>
              <a:gd name="adj2" fmla="val 50007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Dvosmerna navpična puščica 12"/>
          <p:cNvSpPr/>
          <p:nvPr/>
        </p:nvSpPr>
        <p:spPr>
          <a:xfrm>
            <a:off x="6451560" y="5072040"/>
            <a:ext cx="484200" cy="954000"/>
          </a:xfrm>
          <a:prstGeom prst="upDownArrow">
            <a:avLst>
              <a:gd name="adj1" fmla="val 50000"/>
              <a:gd name="adj2" fmla="val 49995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Dvosmerna navpična puščica 13"/>
          <p:cNvSpPr/>
          <p:nvPr/>
        </p:nvSpPr>
        <p:spPr>
          <a:xfrm>
            <a:off x="7081920" y="5049720"/>
            <a:ext cx="484200" cy="955800"/>
          </a:xfrm>
          <a:prstGeom prst="upDownArrow">
            <a:avLst>
              <a:gd name="adj1" fmla="val 50000"/>
              <a:gd name="adj2" fmla="val 50007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282600" y="560520"/>
            <a:ext cx="836784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I kot regionalno R&amp;R vozliš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zelene tehnologije = zeleno vozliš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logistično vozliš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anguard Initi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Industrial Modernisation Platform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igitalisation and Safety in Tou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EIT KIC‘s &amp; HUB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Twin Office 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bilateralna sodelovan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– npr. Bavarska (cluster2cluster → B2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Pilot action on industrial tran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Ograda besedila 1"/>
          <p:cNvSpPr/>
          <p:nvPr/>
        </p:nvSpPr>
        <p:spPr>
          <a:xfrm>
            <a:off x="0" y="-122400"/>
            <a:ext cx="5016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700" spc="-1" strike="noStrike">
                <a:solidFill>
                  <a:srgbClr val="990000"/>
                </a:solidFill>
                <a:latin typeface="Calibri"/>
                <a:ea typeface="Arial"/>
              </a:rPr>
              <a:t>INTERNACIONALIZACIJ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Picture 2" descr="naslovna slika 1"/>
          <p:cNvPicPr/>
          <p:nvPr/>
        </p:nvPicPr>
        <p:blipFill>
          <a:blip r:embed="rId1"/>
          <a:stretch/>
        </p:blipFill>
        <p:spPr>
          <a:xfrm>
            <a:off x="1704960" y="4487760"/>
            <a:ext cx="56466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679320" y="1275840"/>
            <a:ext cx="757584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Ustanovljena Delovna skupina državnih sekretarjev za izvajanje Slovenske strategije pametne specializacije – september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Objavljen razpis za podporo SRIP – oktober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Tabela prioritet S4 in pripadajočih prioritetnih področij in tehnologij (v nadaljevanju Tabela prioritet S4) ter delno potrdila akcijske načrte Strateških razvojno-inovacijskih partnerstev (SRIP) – junij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prememba S4 - področje uporabe S4 trajnostni turizem JE upravičeno do sofinanciranja raziskav, razvoja in inovacij iz naslova kohezijskih sredstev – december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premembe akcijskih načrtov Strateških razvojno-inovacijskih partnerstev (SRIP) (Mreže za prehod v krožno gospodarstvo, Trajnostna pridelava hrane, Tovarne prihodnosti, Zdravje-Medicina in Mobilnost) - april 201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Ograda besedila 1"/>
          <p:cNvSpPr/>
          <p:nvPr/>
        </p:nvSpPr>
        <p:spPr>
          <a:xfrm>
            <a:off x="0" y="-122400"/>
            <a:ext cx="5016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0000"/>
                </a:solidFill>
                <a:latin typeface="Calibri"/>
                <a:ea typeface="Arial"/>
              </a:rPr>
              <a:t>MEJNIK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Ograda številke diapozitiva 3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71FD-7F21-45F2-9732-61A342355E7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oljeZBesedilom 8"/>
          <p:cNvSpPr/>
          <p:nvPr/>
        </p:nvSpPr>
        <p:spPr>
          <a:xfrm>
            <a:off x="5283360" y="3589200"/>
            <a:ext cx="23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gorazd.jenko@gov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8" name="Picture 3" descr=""/>
          <p:cNvPicPr/>
          <p:nvPr/>
        </p:nvPicPr>
        <p:blipFill>
          <a:blip r:embed="rId1"/>
          <a:stretch/>
        </p:blipFill>
        <p:spPr>
          <a:xfrm>
            <a:off x="-271440" y="-392040"/>
            <a:ext cx="3495600" cy="2293920"/>
          </a:xfrm>
          <a:prstGeom prst="rect">
            <a:avLst/>
          </a:prstGeom>
          <a:ln w="0">
            <a:noFill/>
          </a:ln>
        </p:spPr>
      </p:pic>
      <p:sp>
        <p:nvSpPr>
          <p:cNvPr id="729" name="PoljeZBesedilom 8"/>
          <p:cNvSpPr/>
          <p:nvPr/>
        </p:nvSpPr>
        <p:spPr>
          <a:xfrm>
            <a:off x="4032360" y="2025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eter.wostner@gov.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oljeZBesedilom 8"/>
          <p:cNvSpPr/>
          <p:nvPr/>
        </p:nvSpPr>
        <p:spPr>
          <a:xfrm>
            <a:off x="1533600" y="3774960"/>
            <a:ext cx="24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simona.hocevar@gov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oljeZBesedilom 8"/>
          <p:cNvSpPr/>
          <p:nvPr/>
        </p:nvSpPr>
        <p:spPr>
          <a:xfrm>
            <a:off x="5376960" y="2541600"/>
            <a:ext cx="23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marko.hren@gov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oljeZBesedilom 8"/>
          <p:cNvSpPr/>
          <p:nvPr/>
        </p:nvSpPr>
        <p:spPr>
          <a:xfrm>
            <a:off x="2932200" y="2771640"/>
            <a:ext cx="268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0000"/>
                </a:solidFill>
                <a:latin typeface="Calibri"/>
                <a:ea typeface="Arial"/>
              </a:rPr>
              <a:t>ekipa S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oljeZBesedilom 12"/>
          <p:cNvSpPr/>
          <p:nvPr/>
        </p:nvSpPr>
        <p:spPr>
          <a:xfrm>
            <a:off x="1395360" y="2425680"/>
            <a:ext cx="24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ana.cvetko@gov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oljeZBesedilom 1"/>
          <p:cNvSpPr/>
          <p:nvPr/>
        </p:nvSpPr>
        <p:spPr>
          <a:xfrm>
            <a:off x="3706920" y="0"/>
            <a:ext cx="340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  <a:ea typeface="Arial"/>
              </a:rPr>
              <a:t>HVALA ZA VAŠO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5" name="Picture 2" descr="naslovna slika 1"/>
          <p:cNvPicPr/>
          <p:nvPr/>
        </p:nvPicPr>
        <p:blipFill>
          <a:blip r:embed="rId2"/>
          <a:stretch/>
        </p:blipFill>
        <p:spPr>
          <a:xfrm>
            <a:off x="1160640" y="4113360"/>
            <a:ext cx="73468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42600" y="290520"/>
            <a:ext cx="7429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990000"/>
                </a:solidFill>
                <a:latin typeface="Calibri"/>
              </a:rPr>
              <a:t>CIL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1717200"/>
            <a:ext cx="777384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Dvig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dodane vrednosti na zaposleneg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a ravni posameznih prednostnih področ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Povečan delež visokotehnološko intenzivnih proizvodov v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izvozu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vig od 22,3% na povprečno raven EU-15 (26,5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Povečan delež izvoza storitev z visokim deležem znanja v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izvozu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d 21,4% na 33%, kar pomeni prepolovitev zaostanka do povprečja E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Dvig celotne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podjetniške aktivnosti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 sedanjih 11% na vsaj raven povprečja EU, tj. 1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*************************************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Ambicija S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na prednostnih področjih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od sledilca do </a:t>
            </a:r>
            <a:r>
              <a:rPr b="1" lang="sl-SI" sz="2000" spc="-1" strike="noStrike" u="sng">
                <a:solidFill>
                  <a:srgbClr val="000000"/>
                </a:solidFill>
                <a:uFillTx/>
                <a:latin typeface="Calibri"/>
              </a:rPr>
              <a:t>soustvarjalca globalnih trend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Ograda številke diapozitiva 3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65A9-76BC-478B-9FE9-316175A6A24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115920" y="281160"/>
            <a:ext cx="3340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0000"/>
                </a:solidFill>
                <a:latin typeface="Calibri"/>
              </a:rPr>
              <a:t>KAK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Diagram 1" descr=""/>
          <p:cNvPicPr/>
          <p:nvPr/>
        </p:nvPicPr>
        <p:blipFill>
          <a:blip r:embed="rId1"/>
          <a:stretch/>
        </p:blipFill>
        <p:spPr>
          <a:xfrm>
            <a:off x="195120" y="920880"/>
            <a:ext cx="894888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90000" y="-98280"/>
            <a:ext cx="317196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0000"/>
                </a:solidFill>
                <a:latin typeface="Calibri"/>
              </a:rPr>
              <a:t>PRIORITE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Diagram 2" descr=""/>
          <p:cNvPicPr/>
          <p:nvPr/>
        </p:nvPicPr>
        <p:blipFill>
          <a:blip r:embed="rId1"/>
          <a:stretch/>
        </p:blipFill>
        <p:spPr>
          <a:xfrm>
            <a:off x="96840" y="274680"/>
            <a:ext cx="8913960" cy="6400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Rezultat iskanja slik za i feel slovenia creative green smart"/>
          <p:cNvPicPr/>
          <p:nvPr/>
        </p:nvPicPr>
        <p:blipFill>
          <a:blip r:embed="rId2"/>
          <a:stretch/>
        </p:blipFill>
        <p:spPr>
          <a:xfrm>
            <a:off x="7224840" y="5511960"/>
            <a:ext cx="1671480" cy="1123920"/>
          </a:xfrm>
          <a:prstGeom prst="rect">
            <a:avLst/>
          </a:prstGeom>
          <a:ln w="0">
            <a:noFill/>
          </a:ln>
        </p:spPr>
      </p:pic>
      <p:sp>
        <p:nvSpPr>
          <p:cNvPr id="656" name="PoljeZBesedilom 7"/>
          <p:cNvSpPr/>
          <p:nvPr/>
        </p:nvSpPr>
        <p:spPr>
          <a:xfrm>
            <a:off x="4862520" y="2928960"/>
            <a:ext cx="48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990000"/>
                </a:solidFill>
                <a:latin typeface="Calibri"/>
                <a:ea typeface="Arial"/>
              </a:rPr>
              <a:t>S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555120" y="2075040"/>
            <a:ext cx="709956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Ograda besedila 1"/>
          <p:cNvSpPr/>
          <p:nvPr/>
        </p:nvSpPr>
        <p:spPr>
          <a:xfrm>
            <a:off x="90360" y="347760"/>
            <a:ext cx="317196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700" spc="-1" strike="noStrike">
                <a:solidFill>
                  <a:srgbClr val="990000"/>
                </a:solidFill>
                <a:latin typeface="Calibri"/>
                <a:ea typeface="Arial"/>
              </a:rPr>
              <a:t>POVEZOVANJ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9" name="Diagram 4" descr=""/>
          <p:cNvPicPr/>
          <p:nvPr/>
        </p:nvPicPr>
        <p:blipFill>
          <a:blip r:embed="rId1"/>
          <a:stretch/>
        </p:blipFill>
        <p:spPr>
          <a:xfrm>
            <a:off x="585720" y="1255680"/>
            <a:ext cx="7236000" cy="5200560"/>
          </a:xfrm>
          <a:prstGeom prst="rect">
            <a:avLst/>
          </a:prstGeom>
          <a:ln w="0">
            <a:noFill/>
          </a:ln>
        </p:spPr>
      </p:pic>
      <p:sp>
        <p:nvSpPr>
          <p:cNvPr id="660" name="Elipsa 5"/>
          <p:cNvSpPr/>
          <p:nvPr/>
        </p:nvSpPr>
        <p:spPr>
          <a:xfrm>
            <a:off x="746280" y="5667480"/>
            <a:ext cx="742680" cy="75384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lipsa 8"/>
          <p:cNvSpPr/>
          <p:nvPr/>
        </p:nvSpPr>
        <p:spPr>
          <a:xfrm>
            <a:off x="1488960" y="5659560"/>
            <a:ext cx="741600" cy="75384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Elipsa 9"/>
          <p:cNvSpPr/>
          <p:nvPr/>
        </p:nvSpPr>
        <p:spPr>
          <a:xfrm>
            <a:off x="2230560" y="5646600"/>
            <a:ext cx="741240" cy="75420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lipsa 10"/>
          <p:cNvSpPr/>
          <p:nvPr/>
        </p:nvSpPr>
        <p:spPr>
          <a:xfrm>
            <a:off x="2986200" y="5646600"/>
            <a:ext cx="741240" cy="75420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lipsa 11"/>
          <p:cNvSpPr/>
          <p:nvPr/>
        </p:nvSpPr>
        <p:spPr>
          <a:xfrm>
            <a:off x="3727440" y="5667480"/>
            <a:ext cx="741240" cy="75384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Elipsa 12"/>
          <p:cNvSpPr/>
          <p:nvPr/>
        </p:nvSpPr>
        <p:spPr>
          <a:xfrm>
            <a:off x="4468680" y="5646600"/>
            <a:ext cx="743040" cy="75420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Elipsa 13"/>
          <p:cNvSpPr/>
          <p:nvPr/>
        </p:nvSpPr>
        <p:spPr>
          <a:xfrm>
            <a:off x="5211720" y="5646600"/>
            <a:ext cx="741240" cy="75420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lipsa 14"/>
          <p:cNvSpPr/>
          <p:nvPr/>
        </p:nvSpPr>
        <p:spPr>
          <a:xfrm>
            <a:off x="5952960" y="5648400"/>
            <a:ext cx="741600" cy="75384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Elipsa 15"/>
          <p:cNvSpPr/>
          <p:nvPr/>
        </p:nvSpPr>
        <p:spPr>
          <a:xfrm>
            <a:off x="6694560" y="5646600"/>
            <a:ext cx="741240" cy="75420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16"/>
          <p:cNvSpPr/>
          <p:nvPr/>
        </p:nvSpPr>
        <p:spPr>
          <a:xfrm>
            <a:off x="830160" y="58561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oljeZBesedilom 17"/>
          <p:cNvSpPr/>
          <p:nvPr/>
        </p:nvSpPr>
        <p:spPr>
          <a:xfrm>
            <a:off x="1557360" y="583884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oljeZBesedilom 18"/>
          <p:cNvSpPr/>
          <p:nvPr/>
        </p:nvSpPr>
        <p:spPr>
          <a:xfrm>
            <a:off x="2313000" y="5859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oljeZBesedilom 19"/>
          <p:cNvSpPr/>
          <p:nvPr/>
        </p:nvSpPr>
        <p:spPr>
          <a:xfrm>
            <a:off x="3070080" y="583884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oljeZBesedilom 20"/>
          <p:cNvSpPr/>
          <p:nvPr/>
        </p:nvSpPr>
        <p:spPr>
          <a:xfrm>
            <a:off x="3811680" y="58514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oljeZBesedilom 21"/>
          <p:cNvSpPr/>
          <p:nvPr/>
        </p:nvSpPr>
        <p:spPr>
          <a:xfrm>
            <a:off x="4552920" y="58514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oljeZBesedilom 22"/>
          <p:cNvSpPr/>
          <p:nvPr/>
        </p:nvSpPr>
        <p:spPr>
          <a:xfrm>
            <a:off x="5294160" y="5859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oljeZBesedilom 23"/>
          <p:cNvSpPr/>
          <p:nvPr/>
        </p:nvSpPr>
        <p:spPr>
          <a:xfrm>
            <a:off x="6035760" y="58388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oljeZBesedilom 24"/>
          <p:cNvSpPr/>
          <p:nvPr/>
        </p:nvSpPr>
        <p:spPr>
          <a:xfrm>
            <a:off x="6777000" y="58658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90000" y="-98280"/>
            <a:ext cx="317196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700" spc="-1" strike="noStrike">
                <a:solidFill>
                  <a:srgbClr val="990000"/>
                </a:solidFill>
                <a:latin typeface="Calibri"/>
              </a:rPr>
              <a:t>POVEZOVANJ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Diagram 4" descr=""/>
          <p:cNvPicPr/>
          <p:nvPr/>
        </p:nvPicPr>
        <p:blipFill>
          <a:blip r:embed="rId1"/>
          <a:stretch/>
        </p:blipFill>
        <p:spPr>
          <a:xfrm>
            <a:off x="171360" y="590400"/>
            <a:ext cx="8972640" cy="6267600"/>
          </a:xfrm>
          <a:prstGeom prst="rect">
            <a:avLst/>
          </a:prstGeom>
          <a:ln w="0">
            <a:noFill/>
          </a:ln>
        </p:spPr>
      </p:pic>
      <p:sp>
        <p:nvSpPr>
          <p:cNvPr id="680" name="PoljeZBesedilom 5"/>
          <p:cNvSpPr/>
          <p:nvPr/>
        </p:nvSpPr>
        <p:spPr>
          <a:xfrm>
            <a:off x="2755800" y="2273400"/>
            <a:ext cx="3792600" cy="34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990000"/>
                </a:solidFill>
                <a:latin typeface="Calibri"/>
                <a:ea typeface="Arial"/>
              </a:rPr>
              <a:t>Strateška razvojno inovacijska partnerst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500" spc="-1" strike="noStrike">
                <a:solidFill>
                  <a:srgbClr val="990000"/>
                </a:solidFill>
                <a:latin typeface="Calibri"/>
                <a:ea typeface="Arial"/>
              </a:rPr>
              <a:t>SRI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dolgoročno partnerstv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pri vzpostavljanju oz. krepitvi SI deležnikov v </a:t>
            </a:r>
            <a:r>
              <a:rPr b="1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verigah vrednosti </a:t>
            </a:r>
            <a:r>
              <a:rPr b="0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organiziranju </a:t>
            </a:r>
            <a:r>
              <a:rPr b="1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celovite podpore </a:t>
            </a:r>
            <a:r>
              <a:rPr b="0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raziskovalni in inovacijski dejavnost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s ciljem </a:t>
            </a:r>
            <a:r>
              <a:rPr b="1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prodora na globalne trge </a:t>
            </a:r>
            <a:r>
              <a:rPr b="0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na prednostnih področjih S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284040" y="803160"/>
            <a:ext cx="7747200" cy="589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Calibri"/>
              </a:rPr>
              <a:t>Strategija razvoja področja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spremljanje globalnih trendov in novih tehnologij; dolgoročne opredelitve trgov; artikulacija razvojnih in tržnih priložnosti; nadaljnje osredotočanje – vpliv na razvojno politiko 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Calibri"/>
              </a:rPr>
              <a:t>Spodbujanje skupnega razvoja 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povezovanje skupnih RRI iniciativ; osredotočanje raziskovalnih kapacitet, tako javnih kot zasebnih; prenos znanj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Calibri"/>
              </a:rPr>
              <a:t>Internacionalizaci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(vključevanje v mednarodna partnerstva – javna in zasebna; skupni nastopi na tujih trgih in skupno trženje; razvoj mednarodnih konzorcijev in poslovnih modelov; čezmejno in transnacionalno sodelovanj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Calibri"/>
              </a:rPr>
              <a:t>Razvoj človeških vir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(kompetenčni centri za razvoj kadrov; izobraževalni sistem = strokovno in poklicno izobraževanje, ustvarjalnost; štipendijska politik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Calibri"/>
              </a:rPr>
              <a:t>Spodbujanje podjetništva &amp; razvoja skupnih storitev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spodbujanje nastajanja novih podjetij, odprto inoviranje; spodbujanje izvirnih zamisli in pristopov; living labs – prototipiranje &amp; iteracija; standardizacija; novi poslovni mod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Calibri"/>
              </a:rPr>
              <a:t>Zastopanje interesov do države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(inovativnih in zelenih javnih naročil, gospodarske diplomacije in promocije; izdaje dovoljenj in odprave regulacijskih ovir; prednostna obravnava pri izdaji soglasij za izvedbo naložb; spremembe sektorske zakonodaje in regulacijskega okolj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0360" y="-98280"/>
            <a:ext cx="72374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0000"/>
                </a:solidFill>
                <a:latin typeface="Calibri"/>
              </a:rPr>
              <a:t>Kaj dela SRIP? - FUNKCI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12920" y="777960"/>
            <a:ext cx="651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KONSISTENTNOST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skozi tehnološko-razvoje stopnje – TRL; skozi čas; glede na velikost projekt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TRATEŠKI PRISTOP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prioritete, trajnost/dolgoroč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KONVERGENCA TEHNOLOGIJ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obstoječe in prihajajoče industri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OPOLNJEV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PRILAGOJEN ODZ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CELOVIT PRIST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-122760"/>
            <a:ext cx="44928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0000"/>
                </a:solidFill>
                <a:latin typeface="Calibri"/>
              </a:rPr>
              <a:t>SVEŽENJ UKREPO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oljeZBesedilom 4"/>
          <p:cNvSpPr/>
          <p:nvPr/>
        </p:nvSpPr>
        <p:spPr>
          <a:xfrm>
            <a:off x="4213080" y="4525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NAČELA S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rcRect l="27433" t="25382" r="26553" b="20789"/>
          <a:stretch/>
        </p:blipFill>
        <p:spPr>
          <a:xfrm>
            <a:off x="2992320" y="2570040"/>
            <a:ext cx="60008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1681200" y="423720"/>
            <a:ext cx="631512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Calibri"/>
              </a:rPr>
              <a:t>= celovit, prilagojen in usklajen 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… </a:t>
            </a:r>
            <a:r>
              <a:rPr b="1" lang="sl-SI" sz="2300" spc="-1" strike="noStrike">
                <a:solidFill>
                  <a:srgbClr val="000000"/>
                </a:solidFill>
                <a:latin typeface="Calibri"/>
              </a:rPr>
              <a:t>razvojna država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besedila 1"/>
          <p:cNvSpPr/>
          <p:nvPr/>
        </p:nvSpPr>
        <p:spPr>
          <a:xfrm>
            <a:off x="0" y="-122400"/>
            <a:ext cx="44928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0000"/>
                </a:solidFill>
                <a:latin typeface="Calibri"/>
                <a:ea typeface="Arial"/>
              </a:rPr>
              <a:t>SVEŽENJ UKREPO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oljeZBesedilom 7"/>
          <p:cNvSpPr/>
          <p:nvPr/>
        </p:nvSpPr>
        <p:spPr>
          <a:xfrm>
            <a:off x="271440" y="816120"/>
            <a:ext cx="7970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nefinančni ukrepi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inovativna in zelena javna naroči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izdaja dovoljenj in odprava regulacijskih ov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gospodarska diplomacija in promo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davčne olajš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činkovito pravosod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finančni ukrepi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3200400" y="2276640"/>
          <a:ext cx="5857920" cy="4389120"/>
        </p:xfrm>
        <a:graphic>
          <a:graphicData uri="http://schemas.openxmlformats.org/drawingml/2006/table">
            <a:tbl>
              <a:tblPr/>
              <a:tblGrid>
                <a:gridCol w="1655640"/>
                <a:gridCol w="668520"/>
                <a:gridCol w="1309680"/>
                <a:gridCol w="1297080"/>
                <a:gridCol w="927000"/>
              </a:tblGrid>
              <a:tr h="54828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 2016-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prečno le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ež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5.483.5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1.827.8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2014-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.957.0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.319.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lna sredst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2.526.5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.508.8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jetništv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7.923.1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.974.3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2014-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.923.1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.974.3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lna sredst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.000.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000.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loveški vi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234.4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744.8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69.641.2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6.547.0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6.353.8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.117.94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0.667.9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.555.9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8.451.4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489.8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4.167.9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.389.3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Simona Hočevar</cp:lastModifiedBy>
  <cp:lastPrinted>2018-05-24T10:01:14Z</cp:lastPrinted>
  <dcterms:modified xsi:type="dcterms:W3CDTF">2018-05-25T08:08:05Z</dcterms:modified>
  <cp:revision>362</cp:revision>
  <dc:subject/>
  <dc:title>PowerPoint Presentation</dc:title>
</cp:coreProperties>
</file>